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jpeg" ContentType="image/jpeg"/>
  <Override PartName="/ppt/media/image8.jpeg" ContentType="image/jpeg"/>
  <Override PartName="/ppt/media/image5.png" ContentType="image/pn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10.png" ContentType="image/pn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B4031-1F26-4927-BD2E-76502F3D6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1BC3F-5103-4628-9824-95F3A3239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F23D1-CA91-4436-B67A-3C36B3034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352E6-AD37-4E0B-B46C-EF4D36A31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722CA-C119-43F7-A3C0-A21BBFF8F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7424A-948F-47DC-8FDC-B544E833C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0EED0-2169-42FF-BDB0-95EFA1B09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07B96-29EB-4032-BDA4-3EDC525E5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2B451-DA03-4360-8BC5-4B4BE87A8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6820E-3F57-48B4-843B-7548C6781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D0917-3F28-47FC-8023-0B8894BDD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56AF5-2184-43EF-BC66-921D59FEC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457C6-29DC-4115-982E-FA07EA0F8E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hyperlink" Target="http://na.visitjordan.com/" TargetMode="External"/><Relationship Id="rId3" Type="http://schemas.openxmlformats.org/officeDocument/2006/relationships/hyperlink" Target="http://www.infoplease.com/ce6/world/A0859062.html" TargetMode="External"/><Relationship Id="rId4" Type="http://schemas.openxmlformats.org/officeDocument/2006/relationships/hyperlink" Target="http://www.kinghussein.gov.jo/geo_env2.html" TargetMode="External"/><Relationship Id="rId5" Type="http://schemas.openxmlformats.org/officeDocument/2006/relationships/hyperlink" Target="http://student.britannica.com/comptons/article-203293/Jordan" TargetMode="External"/><Relationship Id="rId6" Type="http://schemas.openxmlformats.org/officeDocument/2006/relationships/hyperlink" Target="http://www.bbcnews.com/" TargetMode="External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2743200" y="617184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: Liz Trump &amp; Katelyn Aldri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304920" y="76320"/>
            <a:ext cx="556236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Planet Benson 2"/>
              </a:rPr>
              <a:t>Jordan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Planet Benson 2"/>
              <a:ea typeface="Planet Benson 2"/>
            </a:endParaRPr>
          </a:p>
        </p:txBody>
      </p:sp>
    </p:spTree>
  </p:cSld>
  <p:transition spd="slow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0" y="0"/>
            <a:ext cx="4495680" cy="36576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4495680" y="3733920"/>
            <a:ext cx="4648320" cy="312408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>
            <a:grayscl/>
          </a:blip>
          <a:stretch/>
        </p:blipFill>
        <p:spPr>
          <a:xfrm>
            <a:off x="0" y="3656160"/>
            <a:ext cx="4495680" cy="320184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4">
            <a:grayscl/>
          </a:blip>
          <a:stretch/>
        </p:blipFill>
        <p:spPr>
          <a:xfrm>
            <a:off x="4495680" y="0"/>
            <a:ext cx="4648320" cy="373392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cc"/>
                </a:solidFill>
                <a:latin typeface="Arial"/>
              </a:rPr>
              <a:t>Places to Visi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l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favorite archeological place; has old artifacts, like a small medieval mos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mm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as a unique blend of old and new with traditional coffee shops and art worksho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tra’s Byzantine Chu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as built around 450 A.D; has two aisles that have mosaics, pictures of mythological animals, Noah’s ark animals and the season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lus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rks Ci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na.visitjordan.com/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February 19, 20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infoplease.com/ce6/world/A0859062.html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 February 24, 20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www.kinghussein.gov.jo/geo_env2.html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 February 24, 20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student.britannica.com/comptons/article-203293/Jordan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February 25, 20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www.bbcnews.com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February 26, 20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L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ree main areas; the Jordan Valley, the Mountain Heights Plateau, and the eastern desert (Badia reg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ordan Vall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ation’s most fertile reg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tains Jordan River; 20-30 meters w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untain Heights Platea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parates the Valley from the dese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entire length of the western part of the coun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the west of Jordan is Israel and to the east is Saudi Arabia and Iraq. To the north lies Syri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Dead Sea is part of the border line for Jordan and Israe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fish live in the Dead Sea because of its saltin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rcRect l="0" t="0" r="0" b="16374"/>
          <a:stretch/>
        </p:blipFill>
        <p:spPr>
          <a:xfrm>
            <a:off x="4738680" y="0"/>
            <a:ext cx="440532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228600" y="228600"/>
            <a:ext cx="41911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ffcc99"/>
                  </a:solidFill>
                  <a:miter/>
                </a:ln>
                <a:gradFill rotWithShape="0">
                  <a:gsLst>
                    <a:gs pos="0">
                      <a:srgbClr val="fbeac7"/>
                    </a:gs>
                    <a:gs pos="100000">
                      <a:srgbClr val="fee7f2"/>
                    </a:gs>
                  </a:gsLst>
                  <a:lin ang="135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Hurry Up"/>
              </a:rPr>
              <a:t>The Land cont...</a:t>
            </a:r>
            <a:endParaRPr b="0" lang="en-US" sz="2800" spc="1" strike="noStrike">
              <a:ln w="9360">
                <a:solidFill>
                  <a:srgbClr val="ffcc99"/>
                </a:solidFill>
                <a:miter/>
              </a:ln>
              <a:gradFill rotWithShape="0">
                <a:gsLst>
                  <a:gs pos="0">
                    <a:srgbClr val="fbeac7"/>
                  </a:gs>
                  <a:gs pos="100000">
                    <a:srgbClr val="fee7f2"/>
                  </a:gs>
                </a:gsLst>
                <a:lin ang="135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Hurry Up"/>
              <a:ea typeface="Hurry Up"/>
            </a:endParaRPr>
          </a:p>
        </p:txBody>
      </p:sp>
      <p:sp>
        <p:nvSpPr>
          <p:cNvPr id="50" name=""/>
          <p:cNvSpPr/>
          <p:nvPr/>
        </p:nvSpPr>
        <p:spPr>
          <a:xfrm>
            <a:off x="4419720" y="3429000"/>
            <a:ext cx="9144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mate/Veget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iny season from November to April; dry weather rest of the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th hot, dry summers and cool winters, country has Mediterranean-style clim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pular wildlife consist of: Oryx, oxen, and the ibe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so popular are the Arabian horse, camels and donkey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common flora are the olive, eucalyptus and cedar trees as well as the black iris which is the national flower.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-76320" y="0"/>
            <a:ext cx="922032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Govern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2280" y="4038120"/>
            <a:ext cx="82296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narc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led by King Abdullah 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me Minister, Marouf al-Bakh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puty Prime Minister, Zlad Farei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pulation is about 6,198,67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5562720" y="2895480"/>
            <a:ext cx="3581280" cy="1979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6629400" y="228600"/>
            <a:ext cx="1828800" cy="182088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storical &amp; Current Ev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ordan was known as the most safest country until late 2005 when dozens of people were killed in suicide bomb attacks on hotels in the capital. Iraq-based Islamic militants claimed responsi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ing Hussein had survived wars, and even assassination attempts. At the age of 63, he died from cancer. His brother was to be his heir, until his son was a little older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conom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ufactures limit to the basic items such as clothing, construction materials and consumer good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jor exports are clothing, fertilizers and agricultural produc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ding trade partners are the United States, Saudi Arabia and Iraq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rdan literacy rate is about 90%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5% of population was unemployed in the year 2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official currency is the Jordanian dinar, which can be subdivided into 100 piastres or fi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8077320" y="6054840"/>
            <a:ext cx="838080" cy="8031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rcRect l="0" t="27273" r="0" b="27986"/>
          <a:stretch/>
        </p:blipFill>
        <p:spPr>
          <a:xfrm rot="1180800">
            <a:off x="7620120" y="5105160"/>
            <a:ext cx="1447560" cy="6188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ul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ficial Language is Arab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 90% of the population is Muslim and about 5% are Christia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ditional male clothing consists of tunic, pants and elaborate over garment with a sash or a be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emale clothing has more of a variety in decoration with different colors and embroideries. They wear sashes over their heads and have long dresse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ce, flat breads, olives, lamb or chicken, yogurt, veggies and fruits are the basic ingredients for most of their dish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saf is the national dish which is made up of lamb in dry yogurt. It is served on flat bread and with ric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52280" y="228600"/>
            <a:ext cx="4267440" cy="32018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rcRect l="0" t="11738" r="0" b="0"/>
          <a:stretch/>
        </p:blipFill>
        <p:spPr>
          <a:xfrm>
            <a:off x="3733920" y="3568680"/>
            <a:ext cx="5181480" cy="304488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5029200" y="99072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s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4419360" y="1219320"/>
            <a:ext cx="6858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152280" y="3886200"/>
            <a:ext cx="3467160" cy="27702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5334120" y="321480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ditional Men 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33520" y="358128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ditional Women 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4"/>
          <a:stretch/>
        </p:blipFill>
        <p:spPr>
          <a:xfrm>
            <a:off x="6095880" y="228600"/>
            <a:ext cx="2857680" cy="28576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7T14:43:25Z</dcterms:created>
  <dc:creator>elizabethntrump</dc:creator>
  <dc:description/>
  <dc:language>en-US</dc:language>
  <cp:lastModifiedBy>elizabethntrump</cp:lastModifiedBy>
  <dcterms:modified xsi:type="dcterms:W3CDTF">2009-03-05T19:00:22Z</dcterms:modified>
  <cp:revision>12</cp:revision>
  <dc:subject/>
  <dc:title>JORDAN</dc:title>
</cp:coreProperties>
</file>